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5C3-89AE-4523-8BE9-BB96394F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451-A44A-4AAE-BD9B-4FE20701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E64-CEE3-4DFA-9293-E1E29092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8CF-A7F7-42AF-AB3F-E4134C96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72F-87BD-43F5-8B7C-D627558F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75E-3C9F-41EF-A4A7-B5795AAD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54C-71FF-4349-9B8A-B4098722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3AD-6F53-48F4-9749-64701153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F82-09C8-49B0-BC38-4CCC1C36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52F-E797-4DB7-BDF3-B24A3148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5A5-36DB-40F8-9817-6B54D905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D6E-0AAA-46DA-A2C1-02737610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879E-5427-4AAA-992B-8CE3EC5DA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057400" y="45716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ane du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rianna je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laine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533520" y="685800"/>
            <a:ext cx="4190760" cy="2890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Century Gothic"/>
              </a:rPr>
              <a:t>step-by-step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way-finding desig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Problems - Out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cc00"/>
                </a:solidFill>
                <a:latin typeface="Century Gothic"/>
              </a:rPr>
              <a:t>Three modes of transport</a:t>
            </a:r>
            <a:r>
              <a:rPr b="0" i="1" lang="en-US" sz="2200" spc="-1" strike="noStrike">
                <a:solidFill>
                  <a:srgbClr val="000000"/>
                </a:solidFill>
                <a:latin typeface="Century Gothic"/>
              </a:rPr>
              <a:t> -- MARTA, on foot, &amp; c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In Gener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 m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 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 appropriate direction gi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If they DID exis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multi-ling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graph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consistent or properly associ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in logical 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catered to user group (ie, cars are directed to front of hospital, not park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Loc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ystem of signs and maps (placement, orient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ll modes of transpor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o and from the hos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Direction-Giv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cript for all current direction gi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Signs themselves</a:t>
            </a:r>
            <a:r>
              <a:rPr b="0" lang="en-US" sz="2200" spc="-1" strike="noStrike">
                <a:solidFill>
                  <a:srgbClr val="009999"/>
                </a:solidFill>
                <a:latin typeface="Century Gothic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(one sign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onsist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raph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ulti-ling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Solutions - Out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5257800"/>
            <a:ext cx="1600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62720" y="4952880"/>
            <a:ext cx="2469960" cy="10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705720" y="5105520"/>
            <a:ext cx="1649160" cy="1098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9400" y="571500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586728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472428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5105520"/>
            <a:ext cx="18432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29600" y="5105520"/>
            <a:ext cx="18432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5105520"/>
            <a:ext cx="2590920" cy="1217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Problems -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Current Hospi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ke use of landmarks: colored umbre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mall size makes it easier to maneu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MAJO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New Hospi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rger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nnection between old and new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ck of knowledge for return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Solutions -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72428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Place to Place Directions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terface could be layered by complexity (viewing options based on cognitive ma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hortest path algorithm imbe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 as a storyboard if unable to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Physical Interactive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aper/plastic map or mock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otentially lay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User controls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Map form of user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uld be printed from Place to Plac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lor coordination or thematic element between hospital and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533520" y="685800"/>
            <a:ext cx="7924680" cy="5465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Century Gothic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5:00:15Z</dcterms:created>
  <dc:creator>Marianna Jewell</dc:creator>
  <dc:description/>
  <dc:language>en-US</dc:language>
  <cp:lastModifiedBy>Diane Dutcher</cp:lastModifiedBy>
  <dcterms:modified xsi:type="dcterms:W3CDTF">2007-10-25T02:42:57Z</dcterms:modified>
  <cp:revision>10</cp:revision>
  <dc:subject/>
  <dc:title>Step-by-Step a way-finding design team</dc:title>
</cp:coreProperties>
</file>